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495-76B0-4DCB-BC54-4F6F2090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10D-6301-4622-92C0-DB2606C6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235-1A00-47F9-A4E4-CC632C3C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94E-F256-46FD-8DF5-00AE0893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84C8-294D-4D57-BE79-673C4CD6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297-4F7C-474C-9A5A-C8C516FE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2B1-62D9-4A34-9BE2-A66C9761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FF7-E56D-4E7B-9850-338680DA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AF0-0D5F-48FA-8A48-0FBE118D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A70-94B6-41F2-8157-61D4427A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B34-3775-431B-BC77-8EAB73DE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68CD-5859-4632-8CF8-3615020B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2AE3-833C-4B8B-A34E-29C7152EB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m720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5344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n720" descr=""/>
          <p:cNvPicPr/>
          <p:nvPr/>
        </p:nvPicPr>
        <p:blipFill>
          <a:blip r:embed="rId1"/>
          <a:stretch/>
        </p:blipFill>
        <p:spPr>
          <a:xfrm>
            <a:off x="2057400" y="0"/>
            <a:ext cx="2641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00:27:21Z</dcterms:created>
  <dc:creator>geoff lyon</dc:creator>
  <dc:description/>
  <dc:language>en-US</dc:language>
  <cp:lastModifiedBy>geoff lyon</cp:lastModifiedBy>
  <dcterms:modified xsi:type="dcterms:W3CDTF">2001-10-13T00:27:54Z</dcterms:modified>
  <cp:revision>1</cp:revision>
  <dc:subject/>
  <dc:title>PowerPoint Presentation</dc:title>
</cp:coreProperties>
</file>